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4211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7A5-E680-43B2-A883-88F01119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30F-570F-4B6C-A856-93D07B18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8CB-B275-4B2F-AF92-751F80A4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840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88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192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840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88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430-B2E2-401B-9893-175E21D7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AC6-072D-4DD1-AB5F-7EE5CA3D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4B9-25E3-49AB-BD1B-395F9E42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CF5-B2DA-4D2C-8326-308DEDF7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DEA-811A-4F76-8721-CB9C607D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6AB-3305-4BBE-BBC5-3C1374FC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3E8-06FA-4A85-85C1-83B22C48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EFE-256E-4141-B832-41029002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C6F-D313-436F-A9B4-9411C1B6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55520" y="6400440"/>
            <a:ext cx="1546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73000" y="6400440"/>
            <a:ext cx="4219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33680" y="6400440"/>
            <a:ext cx="177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30CB-AC6B-41BC-A57B-D7B3D5CB0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254160"/>
            <a:ext cx="126216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Plans towards the final power supply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8840" y="502884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. Omeich SE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.E Campag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21920" y="1371240"/>
            <a:ext cx="8340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mid-June 0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« cahier des clauses techniques particulières de l’alimentation pulsée de la corne de Neutrino » official document written by M. Omeich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13pages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This describes the different technical characteristics required at that time both for the power supply and the switches,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The contract between the factory(ies) and LAL and CERN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1</a:t>
            </a:r>
            <a:r>
              <a:rPr b="0" lang="en-GB" sz="2400" spc="-1" strike="noStrike" baseline="30000">
                <a:solidFill>
                  <a:srgbClr val="fc0128"/>
                </a:solidFill>
                <a:latin typeface="Comic Sans MS"/>
              </a:rPr>
              <a:t>st</a:t>
            </a: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 industrial price feed bac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Main power supply (7kV/130A): HAZEMEYER co.: ~ 160k€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Swithes (300kA/100</a:t>
            </a:r>
            <a:r>
              <a:rPr b="0" lang="en-GB" sz="2000" spc="-1" strike="noStrike">
                <a:solidFill>
                  <a:srgbClr val="063de8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s/50Hz): ABB co: ~ 3x2x50k€</a:t>
            </a:r>
            <a:r>
              <a:rPr b="0" lang="en-GB" sz="2000" spc="-1" strike="noStrike">
                <a:solidFill>
                  <a:srgbClr val="33cc33"/>
                </a:solidFill>
                <a:latin typeface="Comic Sans MS"/>
              </a:rPr>
              <a:t>*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 = 300k€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715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063de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8320" y="5684760"/>
            <a:ext cx="5564880" cy="4582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olution exists for ~ 460k€ (700k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29440" y="272880"/>
            <a:ext cx="4467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Industrial solutio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3640" y="6389640"/>
            <a:ext cx="539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cc33"/>
                </a:solidFill>
                <a:latin typeface="Comic Sans MS"/>
              </a:rPr>
              <a:t>*: factor 2 for # of swit</a:t>
            </a:r>
            <a:r>
              <a:rPr b="1" lang="fr-FR" sz="1600" spc="-1" strike="noStrike">
                <a:solidFill>
                  <a:srgbClr val="33cc33"/>
                </a:solidFill>
                <a:latin typeface="Comic Sans MS"/>
              </a:rPr>
              <a:t>c</a:t>
            </a:r>
            <a:r>
              <a:rPr b="1" lang="en-GB" sz="1600" spc="-1" strike="noStrike">
                <a:solidFill>
                  <a:srgbClr val="33cc33"/>
                </a:solidFill>
                <a:latin typeface="Comic Sans MS"/>
              </a:rPr>
              <a:t>hes, factor 3 for 1Hz -&gt; 50H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21920" y="1371600"/>
            <a:ext cx="827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think that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e have time to do some R&amp;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 decrease the price (certainly the study is included the price…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. Völker has a nice setup at CERN that he has pushed to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100kA/1Hz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6640" y="3475080"/>
            <a:ext cx="3962880" cy="2685600"/>
            <a:chOff x="386640" y="3475080"/>
            <a:chExt cx="3962880" cy="2685600"/>
          </a:xfrm>
        </p:grpSpPr>
        <p:sp>
          <p:nvSpPr>
            <p:cNvPr id="51" name=""/>
            <p:cNvSpPr/>
            <p:nvPr/>
          </p:nvSpPr>
          <p:spPr>
            <a:xfrm>
              <a:off x="1785240" y="3475080"/>
              <a:ext cx="109188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6640" y="4313160"/>
              <a:ext cx="173340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w1 (50k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16120" y="4343400"/>
              <a:ext cx="173340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w2 (50k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1" idx="1"/>
              <a:endCxn id="52" idx="0"/>
            </p:cNvCxnSpPr>
            <p:nvPr/>
          </p:nvCxnSpPr>
          <p:spPr>
            <a:xfrm flipV="1" rot="10800000">
              <a:off x="1253160" y="3709080"/>
              <a:ext cx="559800" cy="6037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5" name=""/>
            <p:cNvCxnSpPr>
              <a:stCxn id="51" idx="3"/>
              <a:endCxn id="53" idx="0"/>
            </p:cNvCxnSpPr>
            <p:nvPr/>
          </p:nvCxnSpPr>
          <p:spPr>
            <a:xfrm>
              <a:off x="2853720" y="3709800"/>
              <a:ext cx="629640" cy="633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6" name=""/>
            <p:cNvSpPr/>
            <p:nvPr/>
          </p:nvSpPr>
          <p:spPr>
            <a:xfrm>
              <a:off x="2257200" y="5181480"/>
              <a:ext cx="152640" cy="152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2" idx="2"/>
              <a:endCxn id="56" idx="2"/>
            </p:cNvCxnSpPr>
            <p:nvPr/>
          </p:nvCxnSpPr>
          <p:spPr>
            <a:xfrm flipH="1" rot="16200000">
              <a:off x="1516680" y="4518360"/>
              <a:ext cx="475560" cy="10036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8" name=""/>
            <p:cNvCxnSpPr>
              <a:stCxn id="53" idx="2"/>
              <a:endCxn id="56" idx="6"/>
            </p:cNvCxnSpPr>
            <p:nvPr/>
          </p:nvCxnSpPr>
          <p:spPr>
            <a:xfrm rot="5400000">
              <a:off x="2723400" y="4498920"/>
              <a:ext cx="445320" cy="10735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9" name=""/>
            <p:cNvSpPr/>
            <p:nvPr/>
          </p:nvSpPr>
          <p:spPr>
            <a:xfrm>
              <a:off x="1879200" y="5702400"/>
              <a:ext cx="91044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6" idx="4"/>
              <a:endCxn id="59" idx="0"/>
            </p:cNvCxnSpPr>
            <p:nvPr/>
          </p:nvCxnSpPr>
          <p:spPr>
            <a:xfrm>
              <a:off x="2333520" y="5333760"/>
              <a:ext cx="2160" cy="369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61" name=""/>
          <p:cNvSpPr/>
          <p:nvPr/>
        </p:nvSpPr>
        <p:spPr>
          <a:xfrm>
            <a:off x="4800600" y="3500280"/>
            <a:ext cx="38098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als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15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Energy recovery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22480" y="4987800"/>
            <a:ext cx="5258520" cy="15555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propose to continue the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x3 on each branch th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elements and change the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eeded to reach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300kA/1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5800" y="304920"/>
            <a:ext cx="213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&amp;D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CERN electrical circuit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1147680"/>
            <a:ext cx="7705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In a dream world…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We wish to transfert at LAL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F. Völker’s present setup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 (power supply?, switches, load, energy recovery circuit, cables…)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and the </a:t>
            </a: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Horn prototype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63de8"/>
                </a:solidFill>
                <a:latin typeface="Comic Sans MS"/>
              </a:rPr>
              <a:t>as soon as CERN group agrees that we can do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If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we will buy the same « semi-conductor » elements used presently to increase step by step from 100kA to 300kA </a:t>
            </a: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(cost? cf. F. Völker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If needed we will increase the main power supply (present 3kV/10A ?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, we can experience what happens during this current increase on both sid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Power supply side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: to qualify the switches and the schema in the perspective either to do the assembly at home either to negotiate the price with company…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Horn side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: to perform some strain measurements at higher current even if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may be already experienced with CNGS + F. Völker power suppl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Horn prototype design is not the final one (see. S. Wallon/A. Caz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Prepare ourselves </a:t>
            </a:r>
            <a:r>
              <a:rPr b="0" lang="fr-FR" sz="2400" spc="-1" strike="noStrike">
                <a:solidFill>
                  <a:srgbClr val="fc0128"/>
                </a:solidFill>
                <a:latin typeface="Comic Sans MS"/>
              </a:rPr>
              <a:t>for</a:t>
            </a: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 the next Horn prototyp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08:37:42Z</dcterms:created>
  <dc:creator>J.E Campagne</dc:creator>
  <dc:description/>
  <dc:language>en-US</dc:language>
  <cp:lastModifiedBy>J.E Campagne</cp:lastModifiedBy>
  <dcterms:modified xsi:type="dcterms:W3CDTF">2003-07-04T14:46:52Z</dcterms:modified>
  <cp:revision>8</cp:revision>
  <dc:subject/>
  <dc:title>Plan for power supply</dc:title>
</cp:coreProperties>
</file>